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8953-36DB-4BE8-ACE7-B7D8AC35C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6A94-3E85-4619-A771-E9D8C190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402F-8DB5-4B73-92E3-D55A34B6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2B98-E6E0-4FCC-8546-009D36F1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CFA4-63F8-470F-93E7-3EA37BF9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6CB-3166-4A5C-811F-78A2844C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668-3C40-432F-8CD4-E382422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4FA-1135-406C-8E27-3079751C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27F-1D4C-4156-80B1-3C39AAA4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690A-8FB5-4B3A-9D1E-C3C202D8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7777-B98E-44B9-82F6-DDC4AF2D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6E8-7237-43A6-AA1D-A42F4E5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748D-E905-47E9-BEBA-3B0977BD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AA2E-92C0-4F10-ADF9-F1CF36A3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1EAA-449F-47E8-A525-36D263AE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4E8-80D2-4E52-A470-A09F20F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206-4548-48F5-AC7F-A3ABF019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D96B-585C-49FB-9C8E-09CCC0B0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EF3E-3594-4809-AF1F-95BB1D6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8DDA-E68F-431C-B632-A223191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971B-BF1E-4EEF-8876-D9EC8854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7E92-BE12-487E-A5F2-7A718A07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7D3D-44F7-4C2A-AD31-3F7B2405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0139-C13B-4BE0-9106-A13EDF21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EC81-66DF-48D1-BC7F-8F29DBAF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83FA-F8A3-466C-833F-26FA86D0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7290-74A8-4DB9-8400-BE6B238F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69F-4661-41CF-99AB-4999AC2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840A-B7FF-4E0A-A313-DE116F64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A01A-1AD5-4E1F-BB86-497BD8D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50F3-E421-48C2-ABAC-4C625159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E9DC-601A-418A-B545-BB4CA62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7D23-621A-44CC-9E62-234D6CCC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79D4-6B68-486E-AB42-4A0397C1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DDEF-A675-40FE-9D05-BB4DC5D2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3495-6090-4FD2-9BC0-CBB2A181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6FDC1-9BF9-40C7-8C98-67CE7C12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E304-924B-4EF8-903F-F1EAB1B2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FAB-B759-4990-89FC-5502A9C1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9E0D-3149-458F-A6C7-DB230D15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D3D8B-4E14-402A-8AF0-CEFE6528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961DD-C17D-404A-981E-F1A5FD7C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EDCF-3FB1-415E-A5F9-AC390E70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8977-D7E3-4039-ADDB-2F91AA9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27503-0581-4435-BB08-29FA678E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8F40-7297-4C66-A851-A3D81D09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ADC0-3C87-470F-812B-107374DB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4F736-E653-4088-ABF2-5511874D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11C4-EA2F-4244-8B9B-702CF85F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77F-3E63-4196-BF13-06E16911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9309-4D24-42BC-AA38-1268F264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C3E37-F5C1-4839-944D-721D97D3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49940-7F38-4C46-A7FC-687FCFFD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48F6-BEE8-48E0-8F07-CE50DD4D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9BF25-C7E3-41AD-805C-6BA75E2B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E6B19-FE8C-4577-8291-6C477F45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BD7E3-8E36-4DEE-9AED-379F45D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E738-4F38-40DF-A7F8-BEF95EF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65AF-D4F5-4126-82D2-64BB27F7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A609-79E5-49C6-AD5B-E617C8A5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970-2191-43E6-94A0-048A24D5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30B56-E90B-43E7-B755-49345037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3D79B-792A-47C3-A878-78D58734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C52C7-D590-4303-BD16-78DFFA94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0C0E2-798D-4E1E-85FC-D7593161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F4855-3AEB-470A-B08B-603BA9FF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0704E-3FFA-456B-8050-EE7E5F7F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931A-B8FB-4E3A-8F30-C310C922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550A-EEB8-4F80-BBBD-31371BFF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D52AF-6952-4529-A33F-8582D09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0FC81-3FBF-4A5D-9523-4BD2C302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DA8-9143-4914-BBE8-ADE00D49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7C9AF-FAE6-4F3C-9BA1-01BDA0B0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4CB4-421F-4C54-B4E6-90350C82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18326-0CA8-467B-ACD6-F14ED2E2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0F2EB-D1A7-4367-B6B8-8407A9F0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77D43-9A44-43D5-8A69-C9319854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75DF5-E577-4C3E-8E90-F132A739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571D8-709C-4991-88EB-163653A1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11F4C-E78E-48AE-A0FA-B55C2DB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9CEF1-8DEA-4261-BC65-DFB3887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55D70-AC14-43FF-A08B-F16AED92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04C-85C7-4C5A-88FB-FA8B3F9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F8374-8218-4274-9778-BBB8033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255DA-4EA9-4894-AB6B-BF199DA4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0896C-DC91-4477-8CA3-513A14CA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36C93-DA94-4949-8339-4F4204AE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6B60C-AB0B-4D02-A131-A70C7CDA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0BC-30E3-4C76-B829-06CF6CCF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D15E-DB43-49A7-BADA-2DF16CFD08F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2" name="Picture 7" descr="001268"/>
          <p:cNvPicPr/>
          <p:nvPr/>
        </p:nvPicPr>
        <p:blipFill>
          <a:blip r:embed="rId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232C-3C37-4E8C-944A-D8C25EF2655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BFC5-97EF-4342-B2E4-85E14605BCF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AF52-73BA-4024-818B-0A1B62B0644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B9E2-04FE-4B4F-A9EF-601E2EECA4D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1D2C-2D36-4261-8785-AE0E54BF8CF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9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3A1C-034E-4A7B-87AD-072EDDC61B2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47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8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9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1" name="WordArt 10" descr=""/>
          <p:cNvPicPr/>
          <p:nvPr/>
        </p:nvPicPr>
        <p:blipFill>
          <a:blip r:embed="rId3"/>
          <a:stretch/>
        </p:blipFill>
        <p:spPr>
          <a:xfrm>
            <a:off x="7004160" y="182232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352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685800" y="685800"/>
            <a:ext cx="82296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另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有以下用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用来表示过去的能力、可能性或许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 could read al the age of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岁时就能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ould go wit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可以和他一起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用来表示推测或条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f we could help, we wou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我们能帮上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会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685800" y="685800"/>
            <a:ext cx="83059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情态动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它必须和其它动同一 起构成谓语，没有人称和数的变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劝告或建议，意为“应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have a very bad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hould lie down, have a res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 mor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得了重感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应该躺下休息，多喝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533520" y="838080"/>
            <a:ext cx="83818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情态动词，可以表谦逊、客气、委婉之意。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should say that it would be better to try it again.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倒是认为最好再试一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are mistaken, I should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据我看，你搞错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should expect their basketball team to win the m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他倒是希望他们的篮球队赢得这场比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609480" y="990720"/>
            <a:ext cx="822960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还可以表示一种义务或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，意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应该”。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hould finish your homework before you play games on the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应该先完成你的家庭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然后再玩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80880" y="1938240"/>
            <a:ext cx="8610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A: What's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My sister borrows my clothes withou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sking. What should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Well, you could tell her that this mak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angry ________ she'll ask you nex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A: I don’t have any friends at my new school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should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__________you don’t have any now, you wil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on make 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458280" y="685800"/>
            <a:ext cx="772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a. Fill in the blanks with although, 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that or unt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047760" y="388620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218960" y="5334120"/>
            <a:ext cx="19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lthou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304920" y="762120"/>
            <a:ext cx="8534160" cy="67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A: I'm worried about my school grad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's your ad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You shouldn't wait _______the last minu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 study for a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Mike is my best friend, but he always copi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y homework. What should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__________ he's your best friend, you shou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ill tell him that copying others' homewo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4344480" y="20574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1066320" y="4495680"/>
            <a:ext cx="19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lthou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304920" y="2514600"/>
            <a:ext cx="80769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’m very s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My sister and I fight all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380880" y="3049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b. Write one piece of advice for each problem. Then compare your advice with your partner’s and decide whether the advice is good or b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824120" y="3124080"/>
            <a:ext cx="650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should make more frien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ommunicate with them o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1899360" y="5029200"/>
            <a:ext cx="7180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could communicate with her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hold different opin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09480" y="533520"/>
            <a:ext cx="80773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My sister spends all evening on the phone. 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My cousin borrows my things without returning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My parents won’t let me have a p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2204640" y="1143000"/>
            <a:ext cx="6096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could advise her to help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ousework or go for a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2051640" y="3429000"/>
            <a:ext cx="6796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could make him know it’s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o do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128320" y="5181480"/>
            <a:ext cx="6389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should promise them that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ill never let it affect your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9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8686800" cy="28195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"/>
          <p:cNvSpPr/>
          <p:nvPr/>
        </p:nvSpPr>
        <p:spPr>
          <a:xfrm>
            <a:off x="380880" y="8380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Choose one of the problems and ask your classmates for advice. Decide which classmate has the best ad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838080" y="36576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 left your homework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Your best friend is more popular than you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You are afraid of speaking in front of peopl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宋体"/>
              </a:rPr>
              <a:t>Your best friend does not trust you anymor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our parents always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354840" y="2895480"/>
            <a:ext cx="2377080" cy="6426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Problem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62120" y="762120"/>
            <a:ext cx="7848360" cy="2628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My best friend is more popular tha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want to be like him. What should I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You could try to be friend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: You should just be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685800" y="3657600"/>
            <a:ext cx="7696080" cy="32619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I’m afraid of speaking in front of peopl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should I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You should take it easy. Just b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fident and calm when in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14400" y="1219320"/>
            <a:ext cx="741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Uni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Why don’ t you talk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your par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6"/>
          <p:cNvSpPr txBox="1"/>
          <p:nvPr/>
        </p:nvSpPr>
        <p:spPr>
          <a:xfrm>
            <a:off x="1752480" y="43434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ection A Grammar Foc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457200" y="1295280"/>
            <a:ext cx="807732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What should I ______ (get) my mom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r birthda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hy don’t you  ______ (get) her a scar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Why not ______ (get) her a scar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How/What about ________ (get) her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ar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4190760" y="419112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88620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819520" y="3429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4038480" y="2743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380880" y="53352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Fill in the bl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304920" y="685800"/>
            <a:ext cx="845820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. How about __________calend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bu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 to bu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I believe that singing English songs help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 ________my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impro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 improv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 im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The box is______ heavy ___I can’t  carry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too, to           B. so, that      C. enough,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354120" y="144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8302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2973600" y="4800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754200" y="914400"/>
            <a:ext cx="7921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Maybe you should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call in her  B. call up her  C. call h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Brian doesn’t lik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reading      B. read      C.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5030640" y="99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5030640" y="2286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6"/>
          <p:cNvSpPr/>
          <p:nvPr/>
        </p:nvSpPr>
        <p:spPr>
          <a:xfrm>
            <a:off x="685800" y="2362320"/>
            <a:ext cx="795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should you do when you have a f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th your best friend? Ask someone to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514600" y="9144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Homewor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3"/>
          <p:cNvSpPr/>
          <p:nvPr/>
        </p:nvSpPr>
        <p:spPr>
          <a:xfrm>
            <a:off x="914400" y="1066680"/>
            <a:ext cx="7543800" cy="31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As a child, the best gift for your parents is</a:t>
            </a:r>
            <a:r>
              <a:rPr b="1" lang="en-US" sz="4000" spc="-1" strike="noStrike">
                <a:solidFill>
                  <a:srgbClr val="4584d3"/>
                </a:solidFill>
                <a:latin typeface="Times New Roman"/>
                <a:ea typeface="方正姚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lov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As a student, the best gift for your parents is</a:t>
            </a:r>
            <a:r>
              <a:rPr b="1" lang="en-US" sz="5400" spc="-1" strike="noStrike">
                <a:solidFill>
                  <a:srgbClr val="0000ff"/>
                </a:solidFill>
                <a:latin typeface="方正姚体"/>
                <a:ea typeface="方正姚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219320" y="32767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4346640" y="3429000"/>
            <a:ext cx="33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studying har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035011027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05520" y="4495680"/>
            <a:ext cx="3503520" cy="21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228600" y="914400"/>
          <a:ext cx="8610480" cy="310824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161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ou look tired. What’s the matter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 studied until midnight last night so I didn’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get enough sleep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5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should I do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hy don’t you forget about it? Although she’s wrong, it’s not big dea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  <p:sp>
        <p:nvSpPr>
          <p:cNvPr id="356" name="Oval 10"/>
          <p:cNvSpPr/>
          <p:nvPr/>
        </p:nvSpPr>
        <p:spPr>
          <a:xfrm>
            <a:off x="2819520" y="0"/>
            <a:ext cx="3454200" cy="8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Grammar Focu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28600" y="4038480"/>
          <a:ext cx="8610480" cy="263520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15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should he do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e should talk to his friend so that he can say he’s sorry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12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ybe you could go to his hous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 guess I could, but I don’t want to surprise him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47640" y="1916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表达征求意见的用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066680" y="2133720"/>
            <a:ext cx="69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/How abou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名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动名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914400" y="3124080"/>
            <a:ext cx="77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don’t you…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定性特殊疑问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1828800" y="41911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y n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＋动词原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2133720" y="7621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Gramm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600200" y="52578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30492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Why don’t you do sth.?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这是给别人提建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建议某人做什么事情的句型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e.g. Why don’t we come more often?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咱们为什么不经常来这里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e.g. Why don’t you buy a book for your father?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给你爸爸买本书怎么样？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这个句子还可以写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Why not do…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e.g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Why not get her a camera?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为什么不给她买个相机呢？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这个句型还有发出礼貌地邀请的用法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Why don’t you have a drink of tea?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喝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= Why not have a drink of t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304920" y="6094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2.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隶书"/>
              </a:rPr>
              <a:t>How/What about…?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“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怎么样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/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好吗？”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句型是询问听话这一方对某事物的看法或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意见。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abou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是个介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,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隶书"/>
              </a:rPr>
              <a:t>它后面要接名词或者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隶书"/>
              </a:rPr>
              <a:t>doing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e.g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How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his playing football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足球踢得怎么样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swimming with us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和我们一起游泳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her English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她的英语怎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533520" y="762120"/>
            <a:ext cx="838188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都可以用来表示建议或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告，前者比后者在语气上更加婉转、客气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意为“可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”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ld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意为“应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;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应当”。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— I need some money to pay for the summer c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hould / could borrow some money from you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需要些钱来支付（参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夏令营的费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应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向你的哥哥借一些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762120" y="685800"/>
            <a:ext cx="792468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). could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n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过去式，在比较委婉客气 地提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请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或陈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法时，一般多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回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答时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n,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you please tell us where we show our t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es,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告诉我们在哪里检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，我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609480" y="685800"/>
            <a:ext cx="81536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you...?”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句型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语气的婉转，而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时。在希望得到肯定答复时，以及在表示建议、请求和征求意见时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t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nyt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you lend me your bike,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请把你的自行车借给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好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you please say something about your fami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说说你的家庭情况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18:32Z</dcterms:modified>
  <cp:revision>19</cp:revision>
  <dc:subject/>
  <dc:title>PowerPoint 演示文稿</dc:title>
</cp:coreProperties>
</file>